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B9B-D267-4F9C-8F9D-756478A2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5D4-93C6-4D70-A782-A5657F6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D9B-7F6D-4D41-807A-6077C18C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48C-ADEE-4692-BA97-E150C63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986D-4259-4CBF-962D-E61C791B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D056-3417-4FD2-B6C8-F6E28F5B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8521-8669-469C-B11A-DD60F12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E1A-8293-4859-8EF6-C58E429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89CF-6537-45CC-B72C-BF41D6F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74E4-351C-4F92-8617-D6B0ACEF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32E-4C7F-441D-979B-2A3116F0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B2F-B2F1-4A51-B4D8-3EEA3248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FC83-AEBE-4764-A88D-26E96BB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ADA7-E942-4914-80D2-259177E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7565-81C1-4CBD-A592-F8447D7B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7106-353F-4769-9CB4-8DC7D2F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3252-A62E-4509-B593-5746BF86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F22-C1B0-42D4-A60D-A212567D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FBD-4FBB-4586-9963-7CBE02E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003-0EC7-45D6-BFB5-8AC07AD1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3E8-22A3-411C-8B66-DEBBDE99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E12-0E13-46D0-ADCA-6ED92DC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B94-48B4-4762-87DB-F6AF744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192-53BC-4B35-843E-85B097A2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F393-BE77-4AAC-95A7-A50F662A3B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E9F8-E64E-4EFC-9A89-6545B20EC9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G 44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 and 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Verk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CF College of Education and Huma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delivery mode, a way by which you deliver the content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lso known as didactic, explicit, expository, or traditional 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ledge is basically                            passed on from                                those who know                               to those who don’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678640" y="4191120"/>
            <a:ext cx="3084480" cy="2055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the secondary level, direct                                      instruction tends to be based                          on textbook re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tends to be lecture in forma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lanning and questioning                        are teacher-centered (i.e., not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student needs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76840" y="2209680"/>
            <a:ext cx="203364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be used for teaching facts, rules, and action seque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eaching                                       units of the content so                                                  they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embe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ds to focus on the low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vels of the cognitive dom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s tend to be convergent (having only one answer)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Two cognitive domains.png"/>
          <p:cNvPicPr/>
          <p:nvPr/>
        </p:nvPicPr>
        <p:blipFill>
          <a:blip r:embed="rId1"/>
          <a:srcRect l="0" t="0" r="49610" b="0"/>
          <a:stretch/>
        </p:blipFill>
        <p:spPr>
          <a:xfrm>
            <a:off x="6400800" y="2819520"/>
            <a:ext cx="199692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Striped Right Arrow 4"/>
          <p:cNvSpPr/>
          <p:nvPr/>
        </p:nvSpPr>
        <p:spPr>
          <a:xfrm rot="19245000">
            <a:off x="6086520" y="4224240"/>
            <a:ext cx="762120" cy="533520"/>
          </a:xfrm>
          <a:custGeom>
            <a:avLst/>
            <a:gdLst/>
            <a:ahLst/>
            <a:rect l="l" t="t" r="r" b="b"/>
            <a:pathLst>
              <a:path w="762000" h="533400">
                <a:moveTo>
                  <a:pt x="0" y="133350"/>
                </a:moveTo>
                <a:lnTo>
                  <a:pt x="16669" y="133350"/>
                </a:lnTo>
                <a:lnTo>
                  <a:pt x="16669" y="400050"/>
                </a:lnTo>
                <a:lnTo>
                  <a:pt x="0" y="400050"/>
                </a:lnTo>
                <a:lnTo>
                  <a:pt x="0" y="133350"/>
                </a:lnTo>
                <a:close/>
                <a:moveTo>
                  <a:pt x="33338" y="133350"/>
                </a:moveTo>
                <a:lnTo>
                  <a:pt x="66675" y="133350"/>
                </a:lnTo>
                <a:lnTo>
                  <a:pt x="66675" y="400050"/>
                </a:lnTo>
                <a:lnTo>
                  <a:pt x="33338" y="400050"/>
                </a:lnTo>
                <a:lnTo>
                  <a:pt x="33338" y="133350"/>
                </a:lnTo>
                <a:close/>
                <a:moveTo>
                  <a:pt x="83344" y="133350"/>
                </a:moveTo>
                <a:lnTo>
                  <a:pt x="495300" y="133350"/>
                </a:lnTo>
                <a:lnTo>
                  <a:pt x="495300" y="0"/>
                </a:lnTo>
                <a:lnTo>
                  <a:pt x="762000" y="266700"/>
                </a:lnTo>
                <a:lnTo>
                  <a:pt x="495300" y="533400"/>
                </a:lnTo>
                <a:lnTo>
                  <a:pt x="495300" y="400050"/>
                </a:lnTo>
                <a:lnTo>
                  <a:pt x="83344" y="400050"/>
                </a:lnTo>
                <a:lnTo>
                  <a:pt x="83344" y="13335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irect Instructio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bstraction or concept to be taught is stated by the teach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amples are given, and then the examples are provided to help illustrate the abs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200400" y="3944880"/>
            <a:ext cx="3240000" cy="26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equence of a Direct Teac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1030320" y="1981080"/>
            <a:ext cx="76136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dvantages of Direct Teach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the questioning tends to be convergent, this approach tends to be more time-efficient than indirect, discovery, or inquiry lessons that have a lot of groupwork and student interac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cause it is teacher-directed, this type of lesson gives the teacher more control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skill in questioning is required; hence, there is less need for skilled classroom interactio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3:25:38Z</dcterms:created>
  <dc:creator>Karen Verkler</dc:creator>
  <dc:description/>
  <dc:language>en-US</dc:language>
  <cp:lastModifiedBy>Karen Verkler</cp:lastModifiedBy>
  <dcterms:modified xsi:type="dcterms:W3CDTF">2017-01-01T10:22:57Z</dcterms:modified>
  <cp:revision>349</cp:revision>
  <dc:subject/>
  <dc:title>Slide 1</dc:title>
</cp:coreProperties>
</file>